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18C-0CC0-4BF0-9107-D8B43496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B7E-9834-4301-9B04-B7AAE0AF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CD9-EFCC-4DF0-93D4-5D970834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9E0-4C8E-4122-8733-5DFDB728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C7F-59C0-4257-88FB-0BB8402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73A-6C59-4958-A443-065BCCAC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4AA-BFA0-4F18-80D7-B9C084C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3D3-237C-4E69-B98C-561A4405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191-0BF0-48CA-9758-2B9F0B27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502-2A16-48EF-8E01-C92E680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F5E-E591-4AE3-A3D7-FBCD3B3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66B-D289-4D7D-8054-3838DE2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7AF-C576-4959-B47C-991CF55B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file:///tmp/home/.config/libreoffice/4/user/gallery/MSSN00693A0000%5B1%5D.wav" TargetMode="External"/><Relationship Id="rId5" Type="http://schemas.microsoft.com/office/2007/relationships/media" Target="file:///tmp/home/.config/libreoffice/4/user/gallery/MSSN00693A0000%5B1%5D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zzie Clou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219320"/>
            <a:ext cx="5943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Canal 21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Hoy en Bolivia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3733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89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562720" y="4114800"/>
            <a:ext cx="380880" cy="2286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85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72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990720" cy="96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1752120" y="990720"/>
            <a:ext cx="762120" cy="759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9520" y="2362320"/>
            <a:ext cx="228600" cy="3045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666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4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18960" y="2743200"/>
            <a:ext cx="152280" cy="5335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600200" y="1905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9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57600" y="4800240"/>
            <a:ext cx="380880" cy="304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57200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co dia prono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332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rc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ramp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los trun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 txBox="1"/>
          <p:nvPr/>
        </p:nvSpPr>
        <p:spPr>
          <a:xfrm>
            <a:off x="2133720" y="541008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cre, Bolivia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947520" cy="99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71600" cy="125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029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162920" y="3733920"/>
            <a:ext cx="1093680" cy="115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7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Fin de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38280" y="1600200"/>
          <a:ext cx="3962520" cy="3862440"/>
        </p:xfrm>
        <a:graphic>
          <a:graphicData uri="http://schemas.openxmlformats.org/drawingml/2006/table">
            <a:tbl>
              <a:tblPr/>
              <a:tblGrid>
                <a:gridCol w="1905120"/>
                <a:gridCol w="20574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b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094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bff7"/>
            </a:gs>
            <a:gs pos="100000">
              <a:srgbClr val="5e29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438280"/>
            <a:ext cx="75438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DIOS!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120492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151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18:57Z</dcterms:created>
  <dc:creator>ecloutier11</dc:creator>
  <dc:description/>
  <dc:language>en-US</dc:language>
  <cp:lastModifiedBy>Readington Township Board of Education</cp:lastModifiedBy>
  <dcterms:modified xsi:type="dcterms:W3CDTF">2009-05-12T16:21:51Z</dcterms:modified>
  <cp:revision>7</cp:revision>
  <dc:subject/>
  <dc:title>Slide 1</dc:title>
</cp:coreProperties>
</file>